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20A6-61C5-4D63-AA73-43DF589E22A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7B34-47B9-41AF-926C-864194F15BB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1663-5052-4265-933C-4017385EDE60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F826-BF18-4978-BF4E-15FDE3E731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BCE5-6543-443F-A14E-17B7F13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E3F21-AE05-4E86-9785-C018EC98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776FA-978C-461D-88DC-238627B101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F4C8-564F-4C92-B625-2F2B45A5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68B66-E289-4032-BD28-1E01252DB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54FB4-0142-4588-A33C-A553C967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FFC53-DD5F-4B77-A6F7-07706D8B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B4D5-B45D-42CC-B740-DE3D37455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EE9E-2913-4CC4-A1C1-2AA6A2A5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4D095-0CCC-44CE-B2CD-0EE513FD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F783A-4801-46B4-BC9F-CA8EE61E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B4E0-775F-4EAA-9E32-C8ACF5D5EE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八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患者卧位与安全的护理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卧位的种类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74720" y="1598760"/>
            <a:ext cx="3828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侧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坐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坐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俯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572000" y="1628640"/>
            <a:ext cx="3828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高足低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头低足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膝胸卧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截石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SzPct val="80000"/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去枕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昏迷或全身麻醉未清醒的患者。可避免呕吐物误入气管而引起窒息或肺部并发症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椎管内麻醉或脊髓腔穿刺后的患者。采用此种卧位，可预防颅内压减低而引起的头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凹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休克患者。抬高头胸部，有利于保持气道通畅，改善通气功能，从而改善缺氧症状；抬高下肢，有利于静脉血回流，增加心输出量而使休克症状得到缓解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屈膝仰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检查或接受导尿、会阴冲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仰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侧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灌肠、肛门检查及配合胃镜、肠镜检查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压疮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臀部肌内注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某些面部及颈部手术后患者。半坐卧位可减少局部出血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腔疾病、胸部创伤或心脏疾病引起呼吸困难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、盆腔手术后或有炎症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疾病恢复期体质虚弱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胸腔疾病、胸部创伤或心脏疾病引起呼吸困难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重力→部分血液滞留于下肢和盆腔→回心血量减少→减轻肺淤血和心脏负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膈肌位置下降→胸腔容量扩大→减轻腹腔内脏器对心肺的压力→肺活量增加→利于气体交换→呼吸困难的症状得到改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4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制（腹腔、盆腔术后或有炎症者）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腔渗出液流入盆腔→促使感染局限；盆腔腹膜抗感染性较强，吸收较弱→可防止炎症扩散和毒素吸收，减轻中毒反应；防止感染向上蔓延引起膈下脓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手术后，取半坐卧位→减轻腹部切口缝合处的张力，缓解疼痛，促进舒适→利于切口愈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半坐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俯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 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背部检查或配合胰、胆管造影检查时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脊椎手术后或腰、背、臀部有伤口，不能平卧或侧卧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肠胀气导致腹痛时。采取俯卧位，使腹腔容积增大，可缓解胃肠胀气所致的腹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临床常用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协助患者更换卧位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患者的安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高足低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颈椎骨折患者作颅骨牵引时，用作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颅内压，预防脑水肿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颅脑手术后的患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头低足高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部分泌物引流，使痰易于咳出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十二指肠引流术，有利于胆汁引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妊娠时胎膜早破，防止脐带脱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跟骨或胫骨结节牵引时，利用人体重力作为反牵引力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膝胸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肛门、直肠、乙状结肠镜检查及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矫正胎位不正或子宫后倾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促进产后子宫复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截石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适用范围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会阴、肛门部位的检查、治疗或手术，如膀胱镜、妇产科检查、阴道灌洗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分娩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684360" y="1484280"/>
            <a:ext cx="3887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翻身侧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8ac8de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协助患者移向床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25840" y="1803240"/>
            <a:ext cx="217440" cy="1194120"/>
          </a:xfrm>
          <a:custGeom>
            <a:avLst/>
            <a:gdLst>
              <a:gd name="textAreaLeft" fmla="*/ 138960 w 217440"/>
              <a:gd name="textAreaRight" fmla="*/ 217800 w 217440"/>
              <a:gd name="textAreaTop" fmla="*/ 30960 h 1194120"/>
              <a:gd name="textAreaBottom" fmla="*/ 1163160 h 119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>
            <a:off x="4427640" y="4005360"/>
            <a:ext cx="218880" cy="1368360"/>
          </a:xfrm>
          <a:custGeom>
            <a:avLst/>
            <a:gdLst>
              <a:gd name="textAreaLeft" fmla="*/ 140040 w 218880"/>
              <a:gd name="textAreaRight" fmla="*/ 219240 w 2188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4901040" y="1556640"/>
            <a:ext cx="7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4643280" y="270756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6584400" y="2275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6228720" y="3068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580000" y="2349360"/>
            <a:ext cx="216000" cy="115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716360" y="3859920"/>
            <a:ext cx="98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目的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Rectangle 11"/>
          <p:cNvSpPr/>
          <p:nvPr/>
        </p:nvSpPr>
        <p:spPr>
          <a:xfrm>
            <a:off x="4726440" y="5083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方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13"/>
          <p:cNvSpPr/>
          <p:nvPr/>
        </p:nvSpPr>
        <p:spPr>
          <a:xfrm>
            <a:off x="5508720" y="4869000"/>
            <a:ext cx="215640" cy="1197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Rectangle 16"/>
          <p:cNvSpPr/>
          <p:nvPr/>
        </p:nvSpPr>
        <p:spPr>
          <a:xfrm>
            <a:off x="6513120" y="472356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6157080" y="551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二人协助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协助患者翻身时，动作要轻稳，协调一致，不可拖拉，以免擦伤患者皮肤。翻身后，用软枕垫好肢体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根据患者病情和皮肤情况，确定翻身间隔时间。若发现皮肤发红或有破损时，要及时处理，增加翻身次数，并记录于翻身卡上，做好交接班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23640" y="1341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患者带有各种导管，翻身前应将导管安置妥当，翻身后检查导管是否有移位、脱落、扭曲、受压，以保持导管通畅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翻身时，护士要注意节力原则，让患者尽量靠近护士，使重力线通过支撑面保持平衡，缩短重力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56760" y="1356840"/>
            <a:ext cx="853596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特殊患者更换卧位时，应注意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颅脑手术患者，翻身时头部不可剧烈翻动，以免引起脑疝，因此应取健侧卧位或平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1240" indent="-2840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一般手术患者，翻身时先检查伤口敷料是否潮湿、有无脱落，若被分泌物浸湿或敷料脱落，应先更换敷料并妥善固定，然后再行翻身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骨牵引患者，翻身时不可放松牵引，翻身后要注意牵引位置、方向以及牵引力是否正确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石膏固定患者，应注意翻身后患处位置和局部肢体的血运情况，防止受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协助患者更换卧位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患者的安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影响患者安全的因素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安全环境的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院常见不安全因素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护具的应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列出卧位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舒适卧位的基本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协助患者变换卧位的目的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-3222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陈述临床中常用卧位的适用范围和姿势要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影响患者安全的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医院常见的不安全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协助患者变换卧位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保护具使用的原则和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影响患者安全的因素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觉功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前的健康状态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医务人员素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环境的熟悉度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18960" indent="-31896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诊疗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觉功能是否正常，是否能满足自己的需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状况或意识状态是否正常，是否需要安全协助或保护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否有影响患者安全的不良习惯，如吸烟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安全环境的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0" y="5286240"/>
            <a:ext cx="78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Calibri"/>
              </a:rPr>
              <a:t>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治疗方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接受冷、热疗法或氧气治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需要给予行动限制或肢体约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是否正在使用影响感觉功能的药物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房内是否使用电器设备，患者是否备有电器用品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医院常见不安全因素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物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化学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理性损伤及防范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一）物理性损伤及防范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机械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温度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力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放射性损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53800" y="1343160"/>
            <a:ext cx="84978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常见有跌倒、撞伤等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提供书面的预防跌倒和坠床的健康教育宣传单，告知其跌倒和坠床的高危因素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躁动不安、意识不清、昏迷及婴幼儿患者易发生坠床等意外，应根据患者情况使用床档或其他保护具加以保护。告知患者尽量不要独自下床，不要跨越床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体弱、行动不便的患者行动时应给与搀扶，或使用助行设备，如拐杖、轮椅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老虚弱、偏瘫或长期卧床患者需要起床、站立或坐起时，如果有头晕、眩晕等症状，请求护士或家属帮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患者常用物品应放于容易获取处，以防取放物品时失去平衡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地面要采用防滑地板，并保持整洁、干燥，移开暂时不需要的器械，减少障碍物。楼梯和通道等进出口处避免堆放杂物，以免发生撞伤和跌倒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区走廊、浴室、厕所应设置扶手，供患者行走不稳时扶持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床头、浴室和厕所应设置呼叫系统，并教会患者其使用方法，以便在需要时寻求援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机械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253800" y="1390680"/>
            <a:ext cx="84978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一些特殊科室，如精神科病房，应将剪刀等锐器放置妥当，避免患者发生自伤或者他伤等危险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热水袋、热水瓶所致的烫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冰袋、制冷袋等所致的冻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各种电器如烤灯、高频电刀等所致的灼伤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燃易爆品如氧气、乙醚及其他液化气体所致的各种烧伤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要求为其安置舒适的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按规程协助患者变换卧位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针对医院内常见的不安全因素采取有效的防范措施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根据患者的病情和需要，正确选择和使用各种保护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在应用冷、热疗法时，应严格掌握操作要点，注意观察局部皮肤变化，告知患者如不适要及时通知护士处理。对于婴幼儿、昏迷、意识不清等患者在进行冷、热疗法时，要有专人陪伴，保证患者安全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医院内的电路和各种电器设备要定期检查维修。对患者及家属进行安全用电知识教育，并对其自带的电器设备进行安全检查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2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温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易燃易爆品应妥善保管，加强防火教育，制订防火措施，护士要熟练掌握各种灭火器的使用方法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吸烟是造成火灾的重要原因之一，病区内禁止患者及家属吸烟，并做好相关的宣教工作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3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压力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长期受压所致的压疮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高压氧舱治疗不当所致的气压伤等；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因石膏和夹板固定过紧，形成的局部压疮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压力性损伤的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见相关章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4.</a:t>
            </a: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放射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3568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主要因放射性诊断和治疗过程中处理不当所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常见有放射性皮炎、皮肤溃疡坏死，严重者可致死亡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防范措施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保持接受放射部位皮肤的清洁干燥，且防止皮肤破损，应禁忌一切物理性刺激和化学性刺激等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正确掌握照射剂量和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尽量减少患者不必要的身体暴露，保持照射区域标记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二）化学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0360" y="1337760"/>
            <a:ext cx="82803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：药物使用不当或错用引起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熟悉各种药物应用知识，严格执行药物管理制度和药疗原则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进行药疗时，严格执行“三查七对”，注意药物的配伍禁忌，观察患者用药后的反应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向患者及家属讲解安全用药的有关知识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三）生物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：微生物及昆虫对人体的伤害。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护士应严格执行消毒隔离制度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严格遵守无菌技术操作原则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各项护理措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采取措施消灭昆虫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（四）心理性损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23800" y="1337760"/>
            <a:ext cx="82072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行楷"/>
              </a:rPr>
              <a:t>原因：情绪不稳、精神受到打击而引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行楷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范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高质量护理行为取得患者的信任，并建立良好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帮助患者与周围人群建立一个和睦的人际关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注意对患者进行有关疾病知识的健康教育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446040" indent="-46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引导患者采取积极乐观的态度对待疾病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35720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用来限制患者身体或机体某部位的活动，以达到维护患者安全与治疗效果的各种器具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用保护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床档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edside rail 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束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restrain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914400" indent="-5144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被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overbed cradl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1280" indent="-341280">
              <a:lnSpc>
                <a:spcPct val="2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使用原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知情同意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使用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741240" indent="-341280">
              <a:lnSpc>
                <a:spcPct val="200000"/>
              </a:lnSpc>
              <a:spcBef>
                <a:spcPts val="601"/>
              </a:spcBef>
              <a:buClr>
                <a:srgbClr val="046c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时评价原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9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床 档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0360" y="1337760"/>
            <a:ext cx="8280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用于预防患者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多功能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半自动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围栏式床档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2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临床常用卧位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性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的基本要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卧位的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0360" y="133812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于保护躁动患者，限制身体或肢体活动，防止患者自伤或坠床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宽绷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肩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膝部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尼龙搭扣约束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4071960" y="5000760"/>
            <a:ext cx="25002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约束带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57200" y="135684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应用保护具时，应保持肢体及各关节处于功能位，协助患者经常更换体位，保证患者的安全、舒适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使用约束带时，其下须垫衬垫，固定松紧要适宜，并定时松解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确保患者随时与医务人员取得联系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记录使用保护具的原因、时间、观察结果、相应的护理措施及解除约束的时间。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324000" y="333360"/>
            <a:ext cx="8580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保护具的应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腰椎骨折患者需用何种方法搬运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人法  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人法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人法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人法    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挪动法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人搬运法正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腰部，乙托臀 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小腿、大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肩部，乙托臀           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头、背部，乙托臀、小腿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甲托颈、肩、腰部，乙托臀、膝部下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妇胎膜早破时，采取头低足高位目的是防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脐带脱出          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羊水流出      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感染       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利于引产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胃切除术后的患者取半坐卧位的目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预防腹膜粘连          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局部缺血 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伤口缝合处张力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轻肺部淤血          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静脉血液回流量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自主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ct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动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assive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被迫卧位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ompelled lying positi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卧位的平衡性分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稳定性卧位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大，重心低，平衡稳定，患者感到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不稳定性卧位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撑面小，重心较高，难以平衡。患者大量肌群处于紧张状态，容易疲劳、不舒适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卧位的性质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舒适卧位：患者卧床时，身体各部位均处于合适的位置，感到轻松自在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卧床姿势：应尽量符合人体力学的要求。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位变换：应经常进行，至少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变换一次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舒适卧位的基本要求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身体活动：无禁忌证时，患者身体各部位每天均应活动；改变卧位时应进行全范围关节运动练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受压部位：加强皮肤护理，预防压疮的发生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保护隐私：根据需要适当地遮盖患者的身体，促进患者身心舒适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7:19:43Z</dcterms:modified>
  <cp:revision>130</cp:revision>
  <dc:subject/>
  <dc:title>内科护理学</dc:title>
</cp:coreProperties>
</file>